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52EE-37FC-4467-B7A5-DA57DEA0F6EA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DC2C-9B2C-4C77-94DB-5403C73C7E20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ED7-D669-49F8-BD86-309428A3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6D1-346A-44EA-960D-2F35BC6D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87E-F913-4887-A473-86D4947C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DE0-B841-43FB-933C-DC3FCB28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A0A-1C0A-4234-861B-503610D1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A6D-40C5-4382-A9D8-DDF05C52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9E4-BBEE-4412-8295-C8E53563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DD8-8CF5-438A-969B-263EACC1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33956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41E-3C05-4487-A932-21E039ED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6D8-2A0C-4BCC-85F5-812E809E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B5E-0EFE-4372-85A5-C8007DB3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F0D-EF93-46E7-8E81-17C39FFA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rcRect l="0" t="0" r="0" b="-295"/>
          <a:stretch/>
        </p:blipFill>
        <p:spPr>
          <a:xfrm>
            <a:off x="0" y="-6840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561C-DA45-4BDD-9F82-D58647CBA8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F:\美工素材\校徽标志\校徽组成图.png"/>
          <p:cNvPicPr/>
          <p:nvPr/>
        </p:nvPicPr>
        <p:blipFill>
          <a:blip r:embed="rId1"/>
          <a:stretch/>
        </p:blipFill>
        <p:spPr>
          <a:xfrm>
            <a:off x="0" y="452916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332000" y="2782800"/>
            <a:ext cx="75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程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赛教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9360" y="573264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年   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8:58:37Z</dcterms:created>
  <dc:creator>sewjtu-gao</dc:creator>
  <dc:description/>
  <dc:language>en-US</dc:language>
  <cp:lastModifiedBy>admin</cp:lastModifiedBy>
  <cp:lastPrinted>1899-12-30T00:00:00Z</cp:lastPrinted>
  <dcterms:modified xsi:type="dcterms:W3CDTF">2015-06-09T06:16:00Z</dcterms:modified>
  <cp:revision>4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